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7C5F-7030-455B-AEC3-75BBE1D79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9360-FBF7-4878-B489-FC2881674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D438-B639-4060-A35F-FC3B3F192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5F39-E437-47E6-8EE8-56BAC1D77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E5E4-9A90-414B-B9B8-A7F5D09A077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0F4E4-9232-4036-8DF9-94AB60C05B3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803E2-6F68-4369-98DD-CCC094EB677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92AA60-B663-496C-881C-CCD751707EF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CB2C7C-1E91-4905-A900-1EBA5AD457C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51C12A-8330-41D3-BBB0-3883309355D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7225B-D81D-410B-B319-DC3C9837ACF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B6044-9F01-4736-B1E9-3D6699EF1E5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B2BC2-5804-4098-8B8D-86914AC148A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121F89-5489-4F0B-8A55-F1E6F377CFF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42C77-4177-4A3E-8DEC-29EC145FB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6175-0A52-4438-BDB9-B41D6620072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D4AD5-4873-4768-83DD-62024F86221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3C455-FF7F-420E-80C9-98E5B2105C7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3CA0E-7132-498B-8F3D-479190777E2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13003-A7A1-4BE4-8F58-CDFABD82E14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0A12F-8DBC-4905-80A7-BE9A2ED22D1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38411-7373-43B6-9EA9-C27FA6153B1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799A0-D197-47FE-9FBD-F454E000FB1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A40E8-F32B-4D3F-9FA4-527CC3345A6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8AF2A-3F30-418C-99A6-C5EFC642B9A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A178B-9AC9-4A39-B5FD-B639084F7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5597-D9ED-4EAB-A3CB-58393107CED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A8964-D4B9-4D97-847E-67CC23DC5F1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D09683-2DC6-4C33-846E-B5E26F94880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B5A172-4B53-4944-BB45-E370FB9620A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39FC2B-B10F-4223-8E4C-421D6C395AC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5988E8-E8E6-4007-987E-0A5734D112F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105750-5C1A-4EFB-8008-41B0F314CE4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76AA00-DB58-477A-A700-93D3336550E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9D2799-B364-4493-9144-B5327243C69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D612C1-49EB-4BE0-ABDD-E798323D4B1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BB2A08-706A-48E6-8418-D9ECFA69A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83274-279C-452E-9B70-4059D7EA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331F79-7715-48E1-94DC-A85B2AD59EE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1D73AE-8477-4F47-B5CB-77AA1DAB145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2DF9A8-6C48-4F3E-8FD6-A6295384AA9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382E0-67C5-41B8-9315-A4B0FFEAB28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2C2AD-9D4A-423A-9640-7D4EDEC3690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8BD6A-939A-4488-97E7-FBA2A9EF650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0B7A9-7BB8-44C8-A755-CADBE9AB9DC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DC599-D005-4167-9A7F-CD31C161E9D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E9478-EBA4-4202-BE4B-011F633A22C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1F4DE2-B8C5-45CB-9F90-CBB65AF231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2D050-C2A2-40B6-B7E6-D1843FFF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E2085-3ADC-4A69-B520-D287B12D719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8E735-FD61-49EA-86A0-0DB30280372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DB2C8-9A1A-4550-BA5B-F0094B9F2BE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9D0E58-D42E-48C4-B155-0229F0AB835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E58FC-1F8E-4D23-9EAB-6F49FBE9ED2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9A67C-436F-4649-968F-B57D5F71C72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195F0-84AC-4B07-BDC8-6F5BF3CE3C5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F3BD5-7713-464D-9DCB-7C96A0DFF37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D8B71-9993-4728-ABA2-629E511E65F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C06DF-70ED-46FF-98AB-B9313AFDE4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25A6C-2369-4465-BB76-C0352FB6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E89CF-77F4-449F-9876-79D781C026C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05FE6-2582-4DD5-8A05-A0CA23A9162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D5B63-5C60-4AFC-B049-0ADAEC13C36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062AC-2939-4FBA-9C17-A5CD1D10B06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3AA9B-4A16-4D4F-94AD-2C5FF351A0C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5F77E-EB62-4B06-A5AE-326D1780CE4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0FC73-2181-4B07-90D2-C9D0D544A8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41DFF-3729-4C8D-B623-888510F8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2B5F0-79A5-4265-A831-C318FE0A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ACD70-1E65-4554-8C29-65405A9F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16A3D-56B6-47A7-A0A7-DDC09874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970E-2D5D-40D6-86CA-50ECA98F0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0DB7B-DB89-4149-9252-9A710BA0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B716C-E89E-47A4-B55D-4685BB47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AF7B1-E1D5-43BF-A09A-31450C7B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049AC-5AD2-4B0B-9F56-71D38555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04106-A498-4AB6-97EA-582AA3EB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C6155-50B2-415F-B04E-6615F38877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2BB3D-7F9C-4893-A6B5-0530BF39B5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E9540-3612-4AE7-AE3C-05BB20EBF6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EEFA2-5881-40CA-BDBC-AD97298152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DF4EE-7D95-4C4E-9DDD-A1A05D126A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D80A-443D-44F2-A8D5-AE76807DDC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6085A-4C0F-4BCF-9BF4-4496B37803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F2816-2B23-411A-B071-8DCAC708A5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F0A5E-B48F-413A-93EC-4044BEE86C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71F70-FA57-4032-A4A2-E9CB673491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B2ED0-AC02-4850-8511-A2294B52D0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76D04-1667-4546-AD2F-BED4F94524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83FC5-38E4-44EE-ACB7-B02E9BDD08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A0A1-0AF7-4F11-BE05-45BB878B5F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8BFF-14BA-4BA4-B252-CAB2C4EA18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3A05-38BC-4FA1-8756-B14619A9E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F640-0E2F-4FA9-877F-1FA64D7204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8F2E-F609-4094-94EB-58322E69E8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A4CE-D2B3-4356-9BF5-C5943BFFDA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CC52-E52F-406F-A60D-43825F4495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5F4B-3D2F-411F-913B-F7B038C27E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E6C9-B39D-4A54-80F3-F1405E80DE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24CE-EB08-4FA6-90B0-7C7F6B4952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081A-A160-4687-AF84-C4E8E763EF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FFBD-D077-4EE3-B0BA-D2D554325B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972D-6EAF-4114-AF42-81883CA6A53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87DA98-E5E2-4181-AB43-E4EFAC10A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7427-C79D-4EAC-B0F5-30278290B4E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81E1F7-A956-42AC-9AC0-36A271B2E3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A28452-96CE-4947-8466-EAE8B9E7EB2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47FDB5-446D-4950-82C3-8F8669362B1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E30DF3-C00D-4164-B49E-94CF64ADF0E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D6372-5BFB-4FFE-9E20-2A4A2C5BBA8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B7CB9F-3BC8-4BBB-B718-964C3F08E00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A76718-8685-413E-93FD-7F0A5524E24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CC3AF4-837B-4DD2-8693-77F8B0979BA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C4609A-E676-45FC-A1BB-0B7A7C7AAFA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51FD15-6D6D-4163-807E-77D0FD637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4DF3-E4C0-45CE-BBBF-E28F5E972DC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6C919F-034D-418F-A381-CB8204E4096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CF30D-87DF-469F-ADB1-9BEEA086275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34ACA-3BF0-4F94-B39B-BA556022733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99BE0-1FE9-4999-8E2C-6D6DFBE1160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790B4-76FF-4B80-B160-AC1275CA7B6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AB9C9-22A4-4682-B6B7-5AEB3037147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014C8-7D7B-428B-BD81-8ACD0D42FDD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85540-8A75-4A40-B1A6-5A2487915CD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49746-9783-47CC-8F3D-7D8C080C28B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11E29-0966-4D8B-8801-6B9ED6467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9108-F301-4250-B23C-FEC9ECF96A1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2FA0F-0F39-4BC3-BCE5-EDC218523ED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9A699-92C6-4318-8788-9E500FEF8B3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6AF99-B7A3-48CB-A76C-4309559DAC1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A4FE3-7701-4FAD-B3C1-DE90FE60A2F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17CC8-011F-48ED-A63D-AEEFC9A552F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8F34-F754-4AC9-B8E2-01099EFC2C8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21DFF-BF34-4979-8056-CA8810035D5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0A5BF-0EA3-45C9-91FD-CF27A2C9564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FAB1A-94B9-458E-A84C-97167F84F38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D14A-5D64-412A-BD59-D9C308A6F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4495-4D96-4A43-A340-78DEC0B2692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56DF1-91B6-434F-9840-1F61A224EE4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D8824-9309-4DAF-B372-17C54F13678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DAB89-144C-4A65-A986-E1C79485D01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A6E3-2D12-4C24-B532-834DA2F61CB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70E16-CCFF-4881-96BF-5E68DB479BC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8D5DE2-A509-41B1-B12E-7C342857A94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DC552-8D24-448D-8CAD-F2706F2707E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2A104E-C379-4B07-B5D5-C397A0CB505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5B861-2710-4653-8047-BDE539EE306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B9A0C7-F585-43CA-AF51-48AB018BC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EC9E-417E-4B09-AC28-DEDA842B06E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CD8A67-F1DF-4E25-8179-E8D0166013C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726D63-A5E2-4634-B038-5DAE3658CE3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C7B761-A9EA-4F22-AF13-034264B1603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41DC6D-ADBF-42D1-BD4F-C6EA528444F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F2C726-88F5-4C8C-ACD4-D6F22F18510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72292A-FA90-4BA3-859D-9B80D347C86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DEF4A2-F85D-4D41-B777-0C0742EA3CD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83133-EA87-4540-914E-AA78FDBD2D7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1B70EC-4401-45C2-B43D-F6F91FE7CAF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FAEDD-A4D1-4F5D-B2F0-F021B4446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F742-63D3-498A-A80F-B28499E39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eos_logo"/>
          <p:cNvPicPr/>
          <p:nvPr/>
        </p:nvPicPr>
        <p:blipFill>
          <a:blip r:embed="rId4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2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5733-B91D-4AB1-BABC-B18406359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13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9573-E541-4281-847B-F1B0B4A1F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14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8796-B8DA-4196-AD1E-20D6EC3AB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15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D4F7-E427-405A-9A8C-358C5FB83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8AAD-DB04-40A8-A13E-498A1CA61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5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B62C-2C49-4AE9-B372-2C93952B9D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6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6C88-D84A-4D2A-A2FA-7C743D03A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7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DF1C-641B-4076-8021-56DC3D914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8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7E24-D8DF-40E6-94AE-82C948E97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9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1380-CC3C-479D-9168-001D2FE2D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0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9E94-5923-4EB1-B6BE-0BC96BF90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11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217D-420D-4160-82D5-A8EF4C9C90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capita.wustl.edu/CAPITA/CapitaReports/091116_GEOVI_ACPDemo/ACPortalDemoProject_Flash/ACPortalDemoProject_Flash.html" TargetMode="External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capita.wustl.edu/CAPITA/CapitaReports/091116_GEOVI_ACPDemo/ACPortalDemoProject_Flash/ACPortalDemoProject_Flash.html" TargetMode="External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9C12-9F47-4DC1-90D1-2EBF311836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Status and Progress in an Atmospheric Composition Portal </a:t>
            </a:r>
            <a:br>
              <a:rPr sz="3200"/>
            </a:br>
            <a:r>
              <a:rPr b="1" lang="en-US" sz="2800" spc="-1" strike="noStrike">
                <a:solidFill>
                  <a:srgbClr val="184b81"/>
                </a:solidFill>
                <a:latin typeface="Arial"/>
              </a:rPr>
              <a:t>Initial Capability</a:t>
            </a:r>
            <a:endParaRPr b="1" lang="en-US" sz="28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0" y="525780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IP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rcRect l="91134" t="88861" r="0" b="0"/>
          <a:stretch/>
        </p:blipFill>
        <p:spPr>
          <a:xfrm>
            <a:off x="7620120" y="5637240"/>
            <a:ext cx="1295280" cy="1220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DLR-logo_grau"/>
          <p:cNvPicPr/>
          <p:nvPr/>
        </p:nvPicPr>
        <p:blipFill>
          <a:blip r:embed="rId2"/>
          <a:stretch/>
        </p:blipFill>
        <p:spPr>
          <a:xfrm>
            <a:off x="228600" y="5638680"/>
            <a:ext cx="1122480" cy="9223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8"/>
          <p:cNvSpPr/>
          <p:nvPr/>
        </p:nvSpPr>
        <p:spPr>
          <a:xfrm>
            <a:off x="3049560" y="34290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 Portal Technical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3"/>
          <p:cNvSpPr/>
          <p:nvPr/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0ED8-6CCF-43E2-BA78-5A11E17597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36600" y="21384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AC Portal</a:t>
            </a:r>
            <a:br>
              <a:rPr sz="3200"/>
            </a:b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Mission Statemen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ccess, tools, and contextual guidance to scientists and value-adding organizations in using remotely sensed atmospheric composition data, information, and serv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foster interoperability and application of atmospheric composition data, information and services worldw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the unique requirements and common (shared) features of the ACC and GEOSS users to provide a value-added and complementary cap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 with partners in CEOS and the broader AC community in advancing the AC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Cap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3760920" y="3876840"/>
            <a:ext cx="388800" cy="4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7" descr=""/>
          <p:cNvPicPr/>
          <p:nvPr/>
        </p:nvPicPr>
        <p:blipFill>
          <a:blip r:embed="rId1"/>
          <a:stretch/>
        </p:blipFill>
        <p:spPr>
          <a:xfrm>
            <a:off x="1560600" y="5595840"/>
            <a:ext cx="744480" cy="5428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7" descr=""/>
          <p:cNvPicPr/>
          <p:nvPr/>
        </p:nvPicPr>
        <p:blipFill>
          <a:blip r:embed="rId2"/>
          <a:srcRect l="0" t="11168" r="0" b="0"/>
          <a:stretch/>
        </p:blipFill>
        <p:spPr>
          <a:xfrm>
            <a:off x="1523880" y="487692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6" descr=""/>
          <p:cNvPicPr/>
          <p:nvPr/>
        </p:nvPicPr>
        <p:blipFill>
          <a:blip r:embed="rId3"/>
          <a:stretch/>
        </p:blipFill>
        <p:spPr>
          <a:xfrm>
            <a:off x="1785960" y="5211720"/>
            <a:ext cx="749160" cy="603360"/>
          </a:xfrm>
          <a:prstGeom prst="rect">
            <a:avLst/>
          </a:prstGeom>
          <a:ln w="0">
            <a:noFill/>
          </a:ln>
        </p:spPr>
      </p:pic>
      <p:sp>
        <p:nvSpPr>
          <p:cNvPr id="578" name="TextBox 49"/>
          <p:cNvSpPr/>
          <p:nvPr/>
        </p:nvSpPr>
        <p:spPr>
          <a:xfrm>
            <a:off x="1649160" y="490680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50"/>
          <p:cNvSpPr/>
          <p:nvPr/>
        </p:nvSpPr>
        <p:spPr>
          <a:xfrm>
            <a:off x="1818000" y="5364000"/>
            <a:ext cx="6181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51"/>
          <p:cNvSpPr/>
          <p:nvPr/>
        </p:nvSpPr>
        <p:spPr>
          <a:xfrm>
            <a:off x="1604880" y="579132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2"/>
          <p:cNvSpPr/>
          <p:nvPr/>
        </p:nvSpPr>
        <p:spPr>
          <a:xfrm>
            <a:off x="1828800" y="6019920"/>
            <a:ext cx="53352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53"/>
          <p:cNvSpPr/>
          <p:nvPr/>
        </p:nvSpPr>
        <p:spPr>
          <a:xfrm>
            <a:off x="1844640" y="6126120"/>
            <a:ext cx="54756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2590920" y="48769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0160" y="2438280"/>
            <a:ext cx="1656000" cy="1330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7" descr=""/>
          <p:cNvPicPr/>
          <p:nvPr/>
        </p:nvPicPr>
        <p:blipFill>
          <a:blip r:embed="rId6"/>
          <a:srcRect l="0" t="11168" r="0" b="0"/>
          <a:stretch/>
        </p:blipFill>
        <p:spPr>
          <a:xfrm>
            <a:off x="3673440" y="4923000"/>
            <a:ext cx="685800" cy="498240"/>
          </a:xfrm>
          <a:prstGeom prst="rect">
            <a:avLst/>
          </a:prstGeom>
          <a:ln w="0">
            <a:noFill/>
          </a:ln>
        </p:spPr>
      </p:pic>
      <p:sp>
        <p:nvSpPr>
          <p:cNvPr id="586" name="TextBox 62"/>
          <p:cNvSpPr/>
          <p:nvPr/>
        </p:nvSpPr>
        <p:spPr>
          <a:xfrm>
            <a:off x="3797640" y="495288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6" descr=""/>
          <p:cNvPicPr/>
          <p:nvPr/>
        </p:nvPicPr>
        <p:blipFill>
          <a:blip r:embed="rId7"/>
          <a:stretch/>
        </p:blipFill>
        <p:spPr>
          <a:xfrm>
            <a:off x="5767560" y="5261040"/>
            <a:ext cx="742680" cy="596880"/>
          </a:xfrm>
          <a:prstGeom prst="rect">
            <a:avLst/>
          </a:prstGeom>
          <a:ln w="0">
            <a:noFill/>
          </a:ln>
        </p:spPr>
      </p:pic>
      <p:sp>
        <p:nvSpPr>
          <p:cNvPr id="588" name="TextBox 71"/>
          <p:cNvSpPr/>
          <p:nvPr/>
        </p:nvSpPr>
        <p:spPr>
          <a:xfrm>
            <a:off x="5794920" y="5410080"/>
            <a:ext cx="6181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ounded Rectangle 75"/>
          <p:cNvSpPr/>
          <p:nvPr/>
        </p:nvSpPr>
        <p:spPr>
          <a:xfrm>
            <a:off x="1371600" y="4648320"/>
            <a:ext cx="1752480" cy="182880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1828800"/>
              <a:gd name="textAreaBottom" fmla="*/ 1743480 h 1828800"/>
            </a:gdLst>
            <a:ahLst/>
            <a:rect l="textAreaLeft" t="textAreaTop" r="textAreaRight" b="textAreaBottom"/>
            <a:pathLst>
              <a:path w="21600" h="22540">
                <a:moveTo>
                  <a:pt x="3600" y="0"/>
                </a:moveTo>
                <a:arcTo wR="3600" hR="3600" stAng="16200000" swAng="-5400000"/>
                <a:lnTo>
                  <a:pt x="0" y="18940"/>
                </a:lnTo>
                <a:arcTo wR="3600" hR="3600" stAng="10800000" swAng="-5400000"/>
                <a:lnTo>
                  <a:pt x="18000" y="22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ounded Rectangle 76"/>
          <p:cNvSpPr/>
          <p:nvPr/>
        </p:nvSpPr>
        <p:spPr>
          <a:xfrm>
            <a:off x="3352680" y="4724280"/>
            <a:ext cx="1524240" cy="182880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828800"/>
              <a:gd name="textAreaBottom" fmla="*/ 1754640 h 1828800"/>
            </a:gdLst>
            <a:ahLst/>
            <a:rect l="textAreaLeft" t="textAreaTop" r="textAreaRight" b="textAreaBottom"/>
            <a:pathLst>
              <a:path w="21600" h="25915">
                <a:moveTo>
                  <a:pt x="3600" y="0"/>
                </a:moveTo>
                <a:arcTo wR="3600" hR="3600" stAng="16200000" swAng="-5400000"/>
                <a:lnTo>
                  <a:pt x="0" y="22315"/>
                </a:lnTo>
                <a:arcTo wR="3600" hR="3600" stAng="10800000" swAng="-5400000"/>
                <a:lnTo>
                  <a:pt x="18000" y="259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ounded Rectangle 77"/>
          <p:cNvSpPr/>
          <p:nvPr/>
        </p:nvSpPr>
        <p:spPr>
          <a:xfrm>
            <a:off x="5257800" y="4724280"/>
            <a:ext cx="1371600" cy="18288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828800"/>
              <a:gd name="textAreaBottom" fmla="*/ 1761840 h 1828800"/>
            </a:gdLst>
            <a:ahLst/>
            <a:rect l="textAreaLeft" t="textAreaTop" r="textAreaRight" b="textAreaBottom"/>
            <a:pathLst>
              <a:path w="21600" h="28798">
                <a:moveTo>
                  <a:pt x="3600" y="0"/>
                </a:moveTo>
                <a:arcTo wR="3600" hR="3600" stAng="16200000" swAng="-5400000"/>
                <a:lnTo>
                  <a:pt x="0" y="25198"/>
                </a:lnTo>
                <a:arcTo wR="3600" hR="3600" stAng="10800000" swAng="-5400000"/>
                <a:lnTo>
                  <a:pt x="18000" y="28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78"/>
          <p:cNvSpPr/>
          <p:nvPr/>
        </p:nvSpPr>
        <p:spPr>
          <a:xfrm>
            <a:off x="1691640" y="4221000"/>
            <a:ext cx="109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79"/>
          <p:cNvSpPr/>
          <p:nvPr/>
        </p:nvSpPr>
        <p:spPr>
          <a:xfrm>
            <a:off x="3585600" y="426708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80"/>
          <p:cNvSpPr/>
          <p:nvPr/>
        </p:nvSpPr>
        <p:spPr>
          <a:xfrm>
            <a:off x="5096160" y="4282920"/>
            <a:ext cx="167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ing/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Shape 83"/>
          <p:cNvCxnSpPr>
            <a:stCxn id="592" idx="0"/>
          </p:cNvCxnSpPr>
          <p:nvPr/>
        </p:nvCxnSpPr>
        <p:spPr>
          <a:xfrm flipH="1" flipV="1" rot="5400000">
            <a:off x="3424680" y="2772720"/>
            <a:ext cx="259200" cy="2637720"/>
          </a:xfrm>
          <a:prstGeom prst="curvedConnector2">
            <a:avLst/>
          </a:prstGeom>
          <a:ln w="0">
            <a:noFill/>
          </a:ln>
        </p:spPr>
      </p:cxnSp>
      <p:cxnSp>
        <p:nvCxnSpPr>
          <p:cNvPr id="596" name="Shape 85"/>
          <p:cNvCxnSpPr>
            <a:stCxn id="592" idx="0"/>
          </p:cNvCxnSpPr>
          <p:nvPr/>
        </p:nvCxnSpPr>
        <p:spPr>
          <a:xfrm flipH="1" flipV="1" rot="5400000">
            <a:off x="3475440" y="2528280"/>
            <a:ext cx="452880" cy="293292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7" name="Shape 86"/>
          <p:cNvCxnSpPr>
            <a:stCxn id="593" idx="0"/>
          </p:cNvCxnSpPr>
          <p:nvPr/>
        </p:nvCxnSpPr>
        <p:spPr>
          <a:xfrm flipH="1" flipV="1" rot="5400000">
            <a:off x="4405680" y="3504600"/>
            <a:ext cx="498960" cy="1026360"/>
          </a:xfrm>
          <a:prstGeom prst="curvedConnector5">
            <a:avLst>
              <a:gd name="adj1" fmla="val 49963"/>
              <a:gd name="adj2" fmla="val 50000"/>
              <a:gd name="adj3" fmla="val 4996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8" name="Shape 88"/>
          <p:cNvCxnSpPr>
            <a:stCxn id="594" idx="0"/>
          </p:cNvCxnSpPr>
          <p:nvPr/>
        </p:nvCxnSpPr>
        <p:spPr>
          <a:xfrm flipV="1" rot="16200000">
            <a:off x="5294160" y="3642840"/>
            <a:ext cx="514440" cy="76608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9" name="Straight Arrow Connector 116"/>
          <p:cNvCxnSpPr/>
          <p:nvPr/>
        </p:nvCxnSpPr>
        <p:spPr>
          <a:xfrm>
            <a:off x="3730680" y="243828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600" name="Rounded Rectangle 121"/>
          <p:cNvSpPr/>
          <p:nvPr/>
        </p:nvSpPr>
        <p:spPr>
          <a:xfrm>
            <a:off x="4495680" y="1523880"/>
            <a:ext cx="27432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Curved Connector 123"/>
          <p:cNvCxnSpPr>
            <a:stCxn id="600" idx="2"/>
          </p:cNvCxnSpPr>
          <p:nvPr/>
        </p:nvCxnSpPr>
        <p:spPr>
          <a:xfrm rot="5400000">
            <a:off x="5403240" y="1974600"/>
            <a:ext cx="229320" cy="699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2" name="Picture 47" descr=""/>
          <p:cNvPicPr/>
          <p:nvPr/>
        </p:nvPicPr>
        <p:blipFill>
          <a:blip r:embed="rId8"/>
          <a:srcRect l="11239" t="10006" r="14997" b="4025"/>
          <a:stretch/>
        </p:blipFill>
        <p:spPr>
          <a:xfrm>
            <a:off x="6041880" y="1608120"/>
            <a:ext cx="762120" cy="55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3" name="TextBox 127"/>
          <p:cNvSpPr/>
          <p:nvPr/>
        </p:nvSpPr>
        <p:spPr>
          <a:xfrm>
            <a:off x="6298920" y="1828800"/>
            <a:ext cx="7066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extu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127"/>
          <p:cNvSpPr/>
          <p:nvPr/>
        </p:nvSpPr>
        <p:spPr>
          <a:xfrm>
            <a:off x="4630680" y="1828800"/>
            <a:ext cx="10555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P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llaboration S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78"/>
          <p:cNvSpPr/>
          <p:nvPr/>
        </p:nvSpPr>
        <p:spPr>
          <a:xfrm>
            <a:off x="4961160" y="1219320"/>
            <a:ext cx="18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provide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27"/>
          <p:cNvSpPr/>
          <p:nvPr/>
        </p:nvSpPr>
        <p:spPr>
          <a:xfrm>
            <a:off x="5867280" y="3352680"/>
            <a:ext cx="9558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P Portal Site at 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3760920" y="3876840"/>
            <a:ext cx="388800" cy="4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7" descr=""/>
          <p:cNvPicPr/>
          <p:nvPr/>
        </p:nvPicPr>
        <p:blipFill>
          <a:blip r:embed="rId1"/>
          <a:stretch/>
        </p:blipFill>
        <p:spPr>
          <a:xfrm>
            <a:off x="1560600" y="5595840"/>
            <a:ext cx="744480" cy="5428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7" descr=""/>
          <p:cNvPicPr/>
          <p:nvPr/>
        </p:nvPicPr>
        <p:blipFill>
          <a:blip r:embed="rId2"/>
          <a:srcRect l="0" t="11168" r="0" b="0"/>
          <a:stretch/>
        </p:blipFill>
        <p:spPr>
          <a:xfrm>
            <a:off x="1523880" y="487692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"/>
          <p:cNvPicPr/>
          <p:nvPr/>
        </p:nvPicPr>
        <p:blipFill>
          <a:blip r:embed="rId3"/>
          <a:stretch/>
        </p:blipFill>
        <p:spPr>
          <a:xfrm>
            <a:off x="1785960" y="5211720"/>
            <a:ext cx="749160" cy="603360"/>
          </a:xfrm>
          <a:prstGeom prst="rect">
            <a:avLst/>
          </a:prstGeom>
          <a:ln w="0">
            <a:noFill/>
          </a:ln>
        </p:spPr>
      </p:pic>
      <p:sp>
        <p:nvSpPr>
          <p:cNvPr id="612" name="TextBox 49"/>
          <p:cNvSpPr/>
          <p:nvPr/>
        </p:nvSpPr>
        <p:spPr>
          <a:xfrm>
            <a:off x="1649160" y="490680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50"/>
          <p:cNvSpPr/>
          <p:nvPr/>
        </p:nvSpPr>
        <p:spPr>
          <a:xfrm>
            <a:off x="1818000" y="5364000"/>
            <a:ext cx="6181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1"/>
          <p:cNvSpPr/>
          <p:nvPr/>
        </p:nvSpPr>
        <p:spPr>
          <a:xfrm>
            <a:off x="1604880" y="579132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2"/>
          <p:cNvSpPr/>
          <p:nvPr/>
        </p:nvSpPr>
        <p:spPr>
          <a:xfrm>
            <a:off x="1828800" y="6019920"/>
            <a:ext cx="53352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3"/>
          <p:cNvSpPr/>
          <p:nvPr/>
        </p:nvSpPr>
        <p:spPr>
          <a:xfrm>
            <a:off x="1844640" y="6126120"/>
            <a:ext cx="54756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2"/>
          <p:cNvSpPr/>
          <p:nvPr/>
        </p:nvSpPr>
        <p:spPr>
          <a:xfrm>
            <a:off x="2590920" y="48769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3"/>
          <p:cNvSpPr/>
          <p:nvPr/>
        </p:nvSpPr>
        <p:spPr>
          <a:xfrm>
            <a:off x="2590920" y="5867280"/>
            <a:ext cx="274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0160" y="2438280"/>
            <a:ext cx="1656000" cy="133056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15"/>
          <p:cNvSpPr/>
          <p:nvPr/>
        </p:nvSpPr>
        <p:spPr>
          <a:xfrm>
            <a:off x="2743200" y="533412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PeNDA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7" descr=""/>
          <p:cNvPicPr/>
          <p:nvPr/>
        </p:nvPicPr>
        <p:blipFill>
          <a:blip r:embed="rId6"/>
          <a:stretch/>
        </p:blipFill>
        <p:spPr>
          <a:xfrm>
            <a:off x="3706920" y="5645160"/>
            <a:ext cx="742680" cy="5364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7" descr=""/>
          <p:cNvPicPr/>
          <p:nvPr/>
        </p:nvPicPr>
        <p:blipFill>
          <a:blip r:embed="rId7"/>
          <a:srcRect l="0" t="11168" r="0" b="0"/>
          <a:stretch/>
        </p:blipFill>
        <p:spPr>
          <a:xfrm>
            <a:off x="3673440" y="492300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8" descr=""/>
          <p:cNvPicPr/>
          <p:nvPr/>
        </p:nvPicPr>
        <p:blipFill>
          <a:blip r:embed="rId8"/>
          <a:stretch/>
        </p:blipFill>
        <p:spPr>
          <a:xfrm>
            <a:off x="3938760" y="5261040"/>
            <a:ext cx="742680" cy="596880"/>
          </a:xfrm>
          <a:prstGeom prst="rect">
            <a:avLst/>
          </a:prstGeom>
          <a:ln w="0">
            <a:noFill/>
          </a:ln>
        </p:spPr>
      </p:pic>
      <p:sp>
        <p:nvSpPr>
          <p:cNvPr id="624" name="TextBox 62"/>
          <p:cNvSpPr/>
          <p:nvPr/>
        </p:nvSpPr>
        <p:spPr>
          <a:xfrm>
            <a:off x="3797640" y="495288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63"/>
          <p:cNvSpPr/>
          <p:nvPr/>
        </p:nvSpPr>
        <p:spPr>
          <a:xfrm>
            <a:off x="3966120" y="5410080"/>
            <a:ext cx="6181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64"/>
          <p:cNvSpPr/>
          <p:nvPr/>
        </p:nvSpPr>
        <p:spPr>
          <a:xfrm>
            <a:off x="3753360" y="583740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5"/>
          <p:cNvSpPr/>
          <p:nvPr/>
        </p:nvSpPr>
        <p:spPr>
          <a:xfrm>
            <a:off x="3978360" y="6066000"/>
            <a:ext cx="5331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66"/>
          <p:cNvSpPr/>
          <p:nvPr/>
        </p:nvSpPr>
        <p:spPr>
          <a:xfrm>
            <a:off x="3992400" y="6172200"/>
            <a:ext cx="54936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7" descr=""/>
          <p:cNvPicPr/>
          <p:nvPr/>
        </p:nvPicPr>
        <p:blipFill>
          <a:blip r:embed="rId9"/>
          <a:stretch/>
        </p:blipFill>
        <p:spPr>
          <a:xfrm>
            <a:off x="5535720" y="5645160"/>
            <a:ext cx="742680" cy="536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7" descr=""/>
          <p:cNvPicPr/>
          <p:nvPr/>
        </p:nvPicPr>
        <p:blipFill>
          <a:blip r:embed="rId10"/>
          <a:srcRect l="0" t="11168" r="0" b="0"/>
          <a:stretch/>
        </p:blipFill>
        <p:spPr>
          <a:xfrm>
            <a:off x="5502240" y="492300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6" descr=""/>
          <p:cNvPicPr/>
          <p:nvPr/>
        </p:nvPicPr>
        <p:blipFill>
          <a:blip r:embed="rId11"/>
          <a:stretch/>
        </p:blipFill>
        <p:spPr>
          <a:xfrm>
            <a:off x="5767560" y="5261040"/>
            <a:ext cx="742680" cy="596880"/>
          </a:xfrm>
          <a:prstGeom prst="rect">
            <a:avLst/>
          </a:prstGeom>
          <a:ln w="0">
            <a:noFill/>
          </a:ln>
        </p:spPr>
      </p:pic>
      <p:sp>
        <p:nvSpPr>
          <p:cNvPr id="632" name="TextBox 70"/>
          <p:cNvSpPr/>
          <p:nvPr/>
        </p:nvSpPr>
        <p:spPr>
          <a:xfrm>
            <a:off x="5626440" y="495288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71"/>
          <p:cNvSpPr/>
          <p:nvPr/>
        </p:nvSpPr>
        <p:spPr>
          <a:xfrm>
            <a:off x="5794920" y="5410080"/>
            <a:ext cx="6181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72"/>
          <p:cNvSpPr/>
          <p:nvPr/>
        </p:nvSpPr>
        <p:spPr>
          <a:xfrm>
            <a:off x="5582160" y="583740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73"/>
          <p:cNvSpPr/>
          <p:nvPr/>
        </p:nvSpPr>
        <p:spPr>
          <a:xfrm>
            <a:off x="5807160" y="6066000"/>
            <a:ext cx="5331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74"/>
          <p:cNvSpPr/>
          <p:nvPr/>
        </p:nvSpPr>
        <p:spPr>
          <a:xfrm>
            <a:off x="5821200" y="6172200"/>
            <a:ext cx="54936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ounded Rectangle 75"/>
          <p:cNvSpPr/>
          <p:nvPr/>
        </p:nvSpPr>
        <p:spPr>
          <a:xfrm>
            <a:off x="1371600" y="4648320"/>
            <a:ext cx="1752480" cy="182880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1828800"/>
              <a:gd name="textAreaBottom" fmla="*/ 1743480 h 1828800"/>
            </a:gdLst>
            <a:ahLst/>
            <a:rect l="textAreaLeft" t="textAreaTop" r="textAreaRight" b="textAreaBottom"/>
            <a:pathLst>
              <a:path w="21600" h="22540">
                <a:moveTo>
                  <a:pt x="3600" y="0"/>
                </a:moveTo>
                <a:arcTo wR="3600" hR="3600" stAng="16200000" swAng="-5400000"/>
                <a:lnTo>
                  <a:pt x="0" y="18940"/>
                </a:lnTo>
                <a:arcTo wR="3600" hR="3600" stAng="10800000" swAng="-5400000"/>
                <a:lnTo>
                  <a:pt x="18000" y="22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ounded Rectangle 76"/>
          <p:cNvSpPr/>
          <p:nvPr/>
        </p:nvSpPr>
        <p:spPr>
          <a:xfrm>
            <a:off x="3352680" y="4724280"/>
            <a:ext cx="1524240" cy="182880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828800"/>
              <a:gd name="textAreaBottom" fmla="*/ 1754640 h 1828800"/>
            </a:gdLst>
            <a:ahLst/>
            <a:rect l="textAreaLeft" t="textAreaTop" r="textAreaRight" b="textAreaBottom"/>
            <a:pathLst>
              <a:path w="21600" h="25915">
                <a:moveTo>
                  <a:pt x="3600" y="0"/>
                </a:moveTo>
                <a:arcTo wR="3600" hR="3600" stAng="16200000" swAng="-5400000"/>
                <a:lnTo>
                  <a:pt x="0" y="22315"/>
                </a:lnTo>
                <a:arcTo wR="3600" hR="3600" stAng="10800000" swAng="-5400000"/>
                <a:lnTo>
                  <a:pt x="18000" y="259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ounded Rectangle 77"/>
          <p:cNvSpPr/>
          <p:nvPr/>
        </p:nvSpPr>
        <p:spPr>
          <a:xfrm>
            <a:off x="5257800" y="4724280"/>
            <a:ext cx="1371600" cy="18288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828800"/>
              <a:gd name="textAreaBottom" fmla="*/ 1761840 h 1828800"/>
            </a:gdLst>
            <a:ahLst/>
            <a:rect l="textAreaLeft" t="textAreaTop" r="textAreaRight" b="textAreaBottom"/>
            <a:pathLst>
              <a:path w="21600" h="28798">
                <a:moveTo>
                  <a:pt x="3600" y="0"/>
                </a:moveTo>
                <a:arcTo wR="3600" hR="3600" stAng="16200000" swAng="-5400000"/>
                <a:lnTo>
                  <a:pt x="0" y="25198"/>
                </a:lnTo>
                <a:arcTo wR="3600" hR="3600" stAng="10800000" swAng="-5400000"/>
                <a:lnTo>
                  <a:pt x="18000" y="28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78"/>
          <p:cNvSpPr/>
          <p:nvPr/>
        </p:nvSpPr>
        <p:spPr>
          <a:xfrm>
            <a:off x="1691640" y="4221000"/>
            <a:ext cx="109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79"/>
          <p:cNvSpPr/>
          <p:nvPr/>
        </p:nvSpPr>
        <p:spPr>
          <a:xfrm>
            <a:off x="3585600" y="426708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0"/>
          <p:cNvSpPr/>
          <p:nvPr/>
        </p:nvSpPr>
        <p:spPr>
          <a:xfrm>
            <a:off x="5096160" y="4282920"/>
            <a:ext cx="167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ing/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3" name="Shape 83"/>
          <p:cNvCxnSpPr>
            <a:stCxn id="640" idx="0"/>
          </p:cNvCxnSpPr>
          <p:nvPr/>
        </p:nvCxnSpPr>
        <p:spPr>
          <a:xfrm flipH="1" flipV="1" rot="5400000">
            <a:off x="3424680" y="2772720"/>
            <a:ext cx="259200" cy="2637720"/>
          </a:xfrm>
          <a:prstGeom prst="curvedConnector2">
            <a:avLst/>
          </a:prstGeom>
          <a:ln w="0">
            <a:noFill/>
          </a:ln>
        </p:spPr>
      </p:cxnSp>
      <p:cxnSp>
        <p:nvCxnSpPr>
          <p:cNvPr id="644" name="Shape 85"/>
          <p:cNvCxnSpPr>
            <a:stCxn id="640" idx="0"/>
          </p:cNvCxnSpPr>
          <p:nvPr/>
        </p:nvCxnSpPr>
        <p:spPr>
          <a:xfrm flipH="1" flipV="1" rot="5400000">
            <a:off x="3475440" y="2528280"/>
            <a:ext cx="452880" cy="293292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5" name="Shape 86"/>
          <p:cNvCxnSpPr>
            <a:stCxn id="641" idx="0"/>
          </p:cNvCxnSpPr>
          <p:nvPr/>
        </p:nvCxnSpPr>
        <p:spPr>
          <a:xfrm flipH="1" flipV="1" rot="5400000">
            <a:off x="4405680" y="3504600"/>
            <a:ext cx="498960" cy="1026360"/>
          </a:xfrm>
          <a:prstGeom prst="curvedConnector5">
            <a:avLst>
              <a:gd name="adj1" fmla="val 49963"/>
              <a:gd name="adj2" fmla="val 50000"/>
              <a:gd name="adj3" fmla="val 4996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6" name="Shape 88"/>
          <p:cNvCxnSpPr>
            <a:stCxn id="642" idx="0"/>
          </p:cNvCxnSpPr>
          <p:nvPr/>
        </p:nvCxnSpPr>
        <p:spPr>
          <a:xfrm flipV="1" rot="16200000">
            <a:off x="5294160" y="3642840"/>
            <a:ext cx="514440" cy="76608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47" name="Picture 46" descr=""/>
          <p:cNvPicPr/>
          <p:nvPr/>
        </p:nvPicPr>
        <p:blipFill>
          <a:blip r:embed="rId12"/>
          <a:stretch/>
        </p:blipFill>
        <p:spPr>
          <a:xfrm>
            <a:off x="1825560" y="2438280"/>
            <a:ext cx="1295640" cy="1278000"/>
          </a:xfrm>
          <a:prstGeom prst="rect">
            <a:avLst/>
          </a:prstGeom>
          <a:ln w="0">
            <a:noFill/>
          </a:ln>
        </p:spPr>
      </p:pic>
      <p:sp>
        <p:nvSpPr>
          <p:cNvPr id="648" name="TextBox 107"/>
          <p:cNvSpPr/>
          <p:nvPr/>
        </p:nvSpPr>
        <p:spPr>
          <a:xfrm>
            <a:off x="1996920" y="22068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ight Arrow 108"/>
          <p:cNvSpPr/>
          <p:nvPr/>
        </p:nvSpPr>
        <p:spPr>
          <a:xfrm>
            <a:off x="3349800" y="2743200"/>
            <a:ext cx="76176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ight Arrow 109"/>
          <p:cNvSpPr/>
          <p:nvPr/>
        </p:nvSpPr>
        <p:spPr>
          <a:xfrm rot="10800000">
            <a:off x="3273120" y="304776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3"/>
          <a:stretch/>
        </p:blipFill>
        <p:spPr>
          <a:xfrm>
            <a:off x="3044880" y="1523880"/>
            <a:ext cx="614160" cy="381240"/>
          </a:xfrm>
          <a:prstGeom prst="rect">
            <a:avLst/>
          </a:prstGeom>
          <a:ln w="0">
            <a:noFill/>
          </a:ln>
        </p:spPr>
      </p:pic>
      <p:sp>
        <p:nvSpPr>
          <p:cNvPr id="652" name="TextBox 112"/>
          <p:cNvSpPr/>
          <p:nvPr/>
        </p:nvSpPr>
        <p:spPr>
          <a:xfrm>
            <a:off x="2438640" y="13716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Straight Arrow Connector 114"/>
          <p:cNvCxnSpPr/>
          <p:nvPr/>
        </p:nvCxnSpPr>
        <p:spPr>
          <a:xfrm flipH="1">
            <a:off x="3044520" y="1980000"/>
            <a:ext cx="38160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Straight Arrow Connector 116"/>
          <p:cNvCxnSpPr/>
          <p:nvPr/>
        </p:nvCxnSpPr>
        <p:spPr>
          <a:xfrm>
            <a:off x="3730680" y="243828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655" name="Straight Arrow Connector 118"/>
          <p:cNvCxnSpPr/>
          <p:nvPr/>
        </p:nvCxnSpPr>
        <p:spPr>
          <a:xfrm>
            <a:off x="3584520" y="1990800"/>
            <a:ext cx="381600" cy="305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6" name="Rounded Rectangle 121"/>
          <p:cNvSpPr/>
          <p:nvPr/>
        </p:nvSpPr>
        <p:spPr>
          <a:xfrm>
            <a:off x="4495680" y="1523880"/>
            <a:ext cx="27432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7" name="Curved Connector 123"/>
          <p:cNvCxnSpPr>
            <a:stCxn id="656" idx="2"/>
          </p:cNvCxnSpPr>
          <p:nvPr/>
        </p:nvCxnSpPr>
        <p:spPr>
          <a:xfrm rot="5400000">
            <a:off x="5403240" y="1974600"/>
            <a:ext cx="229320" cy="699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58" name="Picture 47" descr=""/>
          <p:cNvPicPr/>
          <p:nvPr/>
        </p:nvPicPr>
        <p:blipFill>
          <a:blip r:embed="rId14"/>
          <a:srcRect l="11239" t="10006" r="14997" b="4025"/>
          <a:stretch/>
        </p:blipFill>
        <p:spPr>
          <a:xfrm>
            <a:off x="6041880" y="1608120"/>
            <a:ext cx="762120" cy="55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9" name="TextBox 127"/>
          <p:cNvSpPr/>
          <p:nvPr/>
        </p:nvSpPr>
        <p:spPr>
          <a:xfrm>
            <a:off x="6298920" y="1828800"/>
            <a:ext cx="7066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extu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27"/>
          <p:cNvSpPr/>
          <p:nvPr/>
        </p:nvSpPr>
        <p:spPr>
          <a:xfrm>
            <a:off x="4630680" y="1828800"/>
            <a:ext cx="10555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P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llaboration S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78"/>
          <p:cNvSpPr/>
          <p:nvPr/>
        </p:nvSpPr>
        <p:spPr>
          <a:xfrm>
            <a:off x="4961160" y="1219320"/>
            <a:ext cx="18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provide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3"/>
          <p:cNvSpPr/>
          <p:nvPr/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95FC-5CC2-44A9-8A98-4ECAA28F39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AC Portal Technical Team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4290120" y="1905120"/>
            <a:ext cx="469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88f"/>
                </a:solidFill>
                <a:latin typeface="Arial"/>
              </a:rPr>
              <a:t>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nk Lind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aren M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nie Hilsenr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g Leptou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is Ly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ll Te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mes 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fan Falke (Northrop Grum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dolf Husar (Washington Univers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 Robinson (Washington Univers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599400" y="1919160"/>
            <a:ext cx="2871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88f"/>
                </a:solidFill>
                <a:latin typeface="Arial"/>
              </a:rPr>
              <a:t>D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ate Hildenb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athrin Höpp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ter So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leg Gouss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éverine Bernon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8:52:31Z</dcterms:created>
  <dc:creator>Stefan Falke</dc:creator>
  <dc:description/>
  <dc:language>en-US</dc:language>
  <cp:lastModifiedBy>Stefan Falke</cp:lastModifiedBy>
  <dcterms:modified xsi:type="dcterms:W3CDTF">2010-01-06T18:54:42Z</dcterms:modified>
  <cp:revision>2</cp:revision>
  <dc:subject/>
  <dc:title>Slide 1</dc:title>
</cp:coreProperties>
</file>